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E16-A302-49A2-A10B-C51931AB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277-6748-4406-801C-87A1368F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9DB-3D89-41BB-8F4B-5C58AEA9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09F-9CCA-41F7-9445-59E110AA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F446-39E2-482F-95E0-020842D6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B1BC-CE3C-4318-BD4D-20C838AD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AB5E-0376-4FF7-9F90-0E3720AF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E774-7D9F-4F93-9598-035650D9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886F-DCA5-4E16-A699-19A6046B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4ECE-6DA0-448D-A7AE-83C56F36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EFB3-A906-40A7-8BD6-1870D80F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30A-9F5F-4C3B-9033-BF0396BC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F6E2-08A9-4C00-BC9B-99E60B5B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3B60-9C23-4636-8221-18C1CEB5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81FB-AACB-410D-A398-2BB8FC29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E1EF-5397-4EAC-9989-81BE620E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793D-FDBF-41D1-8B5C-49038D43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529F-DA7F-4D68-9B37-0AE52248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CB3-080C-475C-8980-DAC5F19B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771-A203-4C5C-A5C8-42F78FE1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0F9-A986-4DA6-BB5B-167233CD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34E-E6F7-41B6-B829-E2BD3868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403-0FCC-4A96-8000-73E31923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57AD-BF29-4F52-9120-847EDF56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951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916E-9B4C-42B2-A4C0-9DF76DA57039}" type="slidenum"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47712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52E8-6AA0-4E07-8359-8CE13139E6F9}" type="slidenum"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8572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6140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7:23:44Z</dcterms:created>
  <dc:creator>jeanne butcher</dc:creator>
  <dc:description/>
  <cp:keywords/>
  <dc:language>en-US</dc:language>
  <cp:lastModifiedBy>jeanne butcher</cp:lastModifiedBy>
  <dcterms:modified xsi:type="dcterms:W3CDTF">2007-07-15T20:41:55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571033</vt:lpwstr>
  </property>
</Properties>
</file>